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3A54-ABD5-45B4-BE61-947D63D8D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6787-6C64-46CF-B1E3-F6DB1A9BE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2CA1-215D-4C33-B821-9CB3D4E5F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6D4C-D4D1-4236-BC45-BCA587592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74AB-0524-44B5-9A25-76A764F4D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973E-2943-4A94-8612-6B050979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3809-AECA-418D-A470-D94FE396A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9A41-A667-4F94-A808-5420B3E25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912F-F5EF-42E3-B39E-7F601AED6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6251-0E02-4301-BB14-4178C9E1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3E95-DBD2-47AE-8852-E86FE258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46FF-A3E1-4637-8DA1-C2BA3CEA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BD87A-D797-4D7A-9EF1-3D660B6CC1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Map Upd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n Y. Clark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in absenti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d Spring Harbor La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clark@cshl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N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eased 0.08 on August 15,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sion 0.09 to be released imminen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optimizations to increase speed when rendering and creating name-based correspond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ed HTML administration tuto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ing RS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VG outpu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lexible (generic) table structure to allow for things lik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ailed feature tables (more than just names and positions) with curator-defined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bxre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lexibility in choosing/zooming ma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by boy due November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0T18:07:46Z</dcterms:created>
  <dc:creator>Ken Clark</dc:creator>
  <dc:description/>
  <dc:language>en-US</dc:language>
  <cp:lastModifiedBy>Ken Clark</cp:lastModifiedBy>
  <dcterms:modified xsi:type="dcterms:W3CDTF">2003-09-10T18:58:49Z</dcterms:modified>
  <cp:revision>1</cp:revision>
  <dc:subject/>
  <dc:title>CMap Update</dc:title>
</cp:coreProperties>
</file>